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camera.wav" ContentType="audio/x-wav"/>
  <Override PartName="/ppt/media/zapbig0g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caralarmoff.wav" ContentType="audio/x-wav"/>
  <Override PartName="/ppt/media/glass.wav" ContentType="audio/x-wav"/>
  <Override PartName="/ppt/media/zipup202.wav" ContentType="audio/x-wav"/>
  <Override PartName="/ppt/media/cool%20man.wav" ContentType="audio/x-wav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893-A7F1-46BF-8093-5ABB08EB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C90-2286-4099-A51D-F4853F82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790-ADA3-4AB5-8864-8165A646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07B-F9C9-4425-A7A1-CD5B0A2E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FB1-62F8-481C-85AC-300BA3E0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213-ABAB-46A7-9D69-68F97778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4F9-55C1-4674-AFE8-7A88204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B63-7D0F-4A90-A7B1-ED75FA66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A96-0E3E-428B-9162-BE9AD79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C68-DA5C-4326-B272-021F3E2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EAB-DFFA-4087-B301-81B9287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A30-0D76-47D0-9B50-87CC89C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8647-E36B-4DE1-9FE2-EA4280C4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cool%20man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up202.wav"/><Relationship Id="rId21" Type="http://schemas.openxmlformats.org/officeDocument/2006/relationships/audio" Target="../media/boinng04.wav"/><Relationship Id="rId22" Type="http://schemas.openxmlformats.org/officeDocument/2006/relationships/audio" Target="../media/cool%20man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zipup202.wav"/><Relationship Id="rId26" Type="http://schemas.openxmlformats.org/officeDocument/2006/relationships/audio" Target="../media/boinng04.wav"/><Relationship Id="rId27" Type="http://schemas.openxmlformats.org/officeDocument/2006/relationships/audio" Target="../media/cool%20man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cool%20man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zipup202.wav"/><Relationship Id="rId24" Type="http://schemas.openxmlformats.org/officeDocument/2006/relationships/audio" Target="../media/boinng04.wav"/><Relationship Id="rId25" Type="http://schemas.openxmlformats.org/officeDocument/2006/relationships/audio" Target="../media/cool%20man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zipup202.wav"/><Relationship Id="rId29" Type="http://schemas.openxmlformats.org/officeDocument/2006/relationships/audio" Target="../media/boinng04.wav"/><Relationship Id="rId30" Type="http://schemas.openxmlformats.org/officeDocument/2006/relationships/audio" Target="../media/cool%20man.wav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glass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lass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shiphorn.wav"/><Relationship Id="rId15" Type="http://schemas.openxmlformats.org/officeDocument/2006/relationships/audio" Target="../media/shiphorn.wav"/><Relationship Id="rId16" Type="http://schemas.openxmlformats.org/officeDocument/2006/relationships/audio" Target="../media/shiphor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shiphor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boinng04.wav"/><Relationship Id="rId15" Type="http://schemas.openxmlformats.org/officeDocument/2006/relationships/audio" Target="../media/cool%20man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up202.wav"/><Relationship Id="rId19" Type="http://schemas.openxmlformats.org/officeDocument/2006/relationships/audio" Target="../media/boinng04.wav"/><Relationship Id="rId20" Type="http://schemas.openxmlformats.org/officeDocument/2006/relationships/audio" Target="../media/cool%20man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2760" y="1397160"/>
          <a:ext cx="8744040" cy="4140000"/>
        </p:xfrm>
        <a:graphic>
          <a:graphicData uri="http://schemas.openxmlformats.org/drawingml/2006/table">
            <a:tbl>
              <a:tblPr/>
              <a:tblGrid>
                <a:gridCol w="2789280"/>
                <a:gridCol w="2971800"/>
                <a:gridCol w="29829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nom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or more ter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88960" y="72540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s of Facto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3960" y="1936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920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21360" y="19350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520" y="2440080"/>
            <a:ext cx="279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5280" y="2482920"/>
            <a:ext cx="29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344484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(Shortc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4640" y="4481640"/>
            <a:ext cx="291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omials   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66040" y="250020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27080" y="1797120"/>
                <a:ext cx="4264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36720" y="2602080"/>
                <a:ext cx="3470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832040" y="2657520"/>
                <a:ext cx="952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049560" y="2584440"/>
                <a:ext cx="895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20960" y="2658960"/>
                <a:ext cx="1346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19240" y="3548160"/>
                <a:ext cx="5094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14440" y="3649680"/>
                <a:ext cx="1570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27560" y="3633840"/>
                <a:ext cx="1569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60640" y="3619440"/>
                <a:ext cx="952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448160"/>
                <a:ext cx="25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69040" y="4448160"/>
                <a:ext cx="25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86280" y="5056200"/>
                <a:ext cx="1006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081320" y="502452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451240" y="5802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71680" y="6010200"/>
                <a:ext cx="7099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882960" y="5867280"/>
                <a:ext cx="1122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904000" y="5056200"/>
                <a:ext cx="1009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99400" y="502452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270400" y="5802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122880" y="5994360"/>
                <a:ext cx="7095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767640" y="5867280"/>
                <a:ext cx="1477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0760" y="4416480"/>
                <a:ext cx="1958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92040" y="51354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4880" y="51246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47560" y="5024520"/>
                <a:ext cx="505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781280" y="5024520"/>
                <a:ext cx="5061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07880" y="5816520"/>
                <a:ext cx="1808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370160" y="1706400"/>
                <a:ext cx="5653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913120" y="2430360"/>
                <a:ext cx="44798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17880" y="2519280"/>
                <a:ext cx="895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62400" y="244620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90880" y="253692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519280" y="3381480"/>
                <a:ext cx="5094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6400" y="362592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29040" y="3625920"/>
                <a:ext cx="563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736640" y="3467160"/>
                <a:ext cx="89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138640" y="25225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94000" y="3463920"/>
                <a:ext cx="100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305320" y="346536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25560" y="4371840"/>
                <a:ext cx="2460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576760" y="4371840"/>
                <a:ext cx="2460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38560" y="497988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33960" y="494820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603520" y="57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483000" y="59342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11480" y="5775480"/>
                <a:ext cx="1476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56280" y="497988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051680" y="494820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423040" y="572616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34200" y="5918040"/>
                <a:ext cx="592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919920" y="5791320"/>
                <a:ext cx="1477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00040" y="4340160"/>
                <a:ext cx="1903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544680" y="505944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7520" y="50482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73200" y="497520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4975200"/>
                <a:ext cx="563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9200" y="5740560"/>
                <a:ext cx="16891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8760" y="2190600"/>
                <a:ext cx="335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70040" y="2981160"/>
                <a:ext cx="2519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68120" y="1163520"/>
            <a:ext cx="897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greatest common factor and factor it out of the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80920" y="3043080"/>
                <a:ext cx="8971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959120" y="2970360"/>
                <a:ext cx="11206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2185920"/>
                <a:ext cx="3160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71600" y="4235400"/>
                <a:ext cx="268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70280" y="3081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875200" y="2905200"/>
                <a:ext cx="25196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75200" y="2921040"/>
                <a:ext cx="1120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270480" y="2917800"/>
                <a:ext cx="7844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58160" y="2992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57280" y="499428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63800" y="5113440"/>
                <a:ext cx="504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808280" y="4978440"/>
                <a:ext cx="78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70320" y="5083200"/>
                <a:ext cx="1288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138320" y="1749600"/>
                <a:ext cx="306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281320" y="2540160"/>
                <a:ext cx="2519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465200" y="260208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09720" y="2529000"/>
                <a:ext cx="839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62480" y="262908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6509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03400" y="3594240"/>
                <a:ext cx="1457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87720" y="3578400"/>
                <a:ext cx="15145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93800" y="356400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1960" y="1812960"/>
                <a:ext cx="4168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17800" y="2644920"/>
                <a:ext cx="3527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74680" y="261612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03440" y="2598840"/>
                <a:ext cx="671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60720" y="2689200"/>
                <a:ext cx="1233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509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46240" y="3781440"/>
                <a:ext cx="392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998880" y="3780000"/>
                <a:ext cx="393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3800" y="3564000"/>
                <a:ext cx="952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265640" y="26859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5400" y="3645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446720" y="36464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93680" y="1812960"/>
                <a:ext cx="39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139840" y="2616120"/>
                <a:ext cx="352764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457280" y="2587680"/>
                <a:ext cx="784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70040" y="2570040"/>
                <a:ext cx="782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27320" y="2660760"/>
                <a:ext cx="1346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79560" y="3548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190600" y="380988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143240" y="3808440"/>
                <a:ext cx="5637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43080" y="3579840"/>
                <a:ext cx="784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03800" y="265752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14760" y="3630600"/>
                <a:ext cx="1006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705200" y="3630600"/>
                <a:ext cx="895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2960" y="1779480"/>
                <a:ext cx="4647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77800" y="2836800"/>
                <a:ext cx="841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695600" y="3112920"/>
                <a:ext cx="6159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9240" y="296532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95520" y="3949560"/>
                <a:ext cx="21859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52880" y="29923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624560" y="315900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95840" y="29671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17920" y="3251160"/>
                <a:ext cx="5605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48320" y="309888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94400" y="308304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55720" y="1812960"/>
                <a:ext cx="4792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52320" y="2908440"/>
                <a:ext cx="7844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722600" y="3168720"/>
                <a:ext cx="5601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62240" y="299412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50960" y="3949560"/>
                <a:ext cx="20750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747960" y="3962520"/>
                <a:ext cx="1906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51440" y="3027240"/>
                <a:ext cx="502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75120" y="31543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400720" y="300816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63680" y="1812960"/>
                <a:ext cx="3929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by Grou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expression comple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352520" y="2876400"/>
                <a:ext cx="21844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69960" y="2908440"/>
                <a:ext cx="841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08200" y="302256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46480" y="2994120"/>
                <a:ext cx="896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77960" y="3949560"/>
                <a:ext cx="2019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03760" y="3962520"/>
                <a:ext cx="1793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525680" y="2590920"/>
            <a:ext cx="19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9280" y="2590920"/>
            <a:ext cx="1797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5400" y="2908440"/>
                <a:ext cx="21844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83200" y="2995560"/>
                <a:ext cx="390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848120" y="304020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484960" y="3008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90920" y="3111480"/>
                <a:ext cx="615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78040" y="1811160"/>
                <a:ext cx="4408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Polynomi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8120" y="1163520"/>
            <a:ext cx="89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35080" y="25081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3120" y="2763720"/>
                <a:ext cx="617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48040" y="25970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820800" y="3416400"/>
                <a:ext cx="24620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622680" y="3416400"/>
                <a:ext cx="2405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333440" y="4079880"/>
                <a:ext cx="1006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28840" y="40482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98400" y="48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09560" y="5111640"/>
                <a:ext cx="6508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130480" y="4890960"/>
                <a:ext cx="1122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206960" y="4106880"/>
                <a:ext cx="896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202360" y="407520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3517920" y="48261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400640" y="5097600"/>
                <a:ext cx="6490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14800" y="4919760"/>
                <a:ext cx="1478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78240" y="2732040"/>
                <a:ext cx="617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92400" y="259236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11T13:53:20Z</dcterms:modified>
  <cp:revision>22</cp:revision>
  <dc:subject/>
  <dc:title>Slide 1</dc:title>
</cp:coreProperties>
</file>